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7E8-56DE-47AD-88AE-1DAFAC47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223-2CEC-42D8-A310-D2CBD9D1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715-F9CC-4BA6-AA96-8F623542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81C-55EE-4680-8214-A367207F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9E7-6616-41F8-9C5D-61A108E1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D71-8057-4171-A121-EECF6F55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65B-DFA6-465F-AD71-0D642970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7FD-AC85-4D51-A555-F0B17C5C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070-39AA-4339-9949-938C63D0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B4C-6670-430D-9043-DC201785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52C-AAD5-4AEC-9A16-5B281515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F7A-9A86-4B7E-8CD2-5D65AAB2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7DEC-13FC-4C4E-B682-7A63C01B9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geoghagan_geometry_assignments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4 Angles &amp; their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324480" y="4114800"/>
            <a:ext cx="3049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n acute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3, &lt;2, &lt;SBT, or &lt;T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n obtuse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A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 righ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, &lt;ABS, or &lt;S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 straigh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238880" y="4952520"/>
            <a:ext cx="1447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4419720"/>
            <a:ext cx="43434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629400" y="2361960"/>
            <a:ext cx="0" cy="2057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629400" y="2590920"/>
            <a:ext cx="1295280" cy="1828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3809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038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434340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274320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3048120"/>
            <a:ext cx="76320" cy="759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29600" y="434340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53080" y="434340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2590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ssig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gl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symbol: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rays that share the same endpoint (or initial 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477120" y="228600"/>
                <a:ext cx="838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 flipH="1" flipV="1">
            <a:off x="1982880" y="2814480"/>
            <a:ext cx="2668320" cy="9144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128320" y="3728880"/>
            <a:ext cx="2514600" cy="8416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85880" y="2970360"/>
            <a:ext cx="15588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4267080"/>
            <a:ext cx="15264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2286000"/>
            <a:ext cx="4191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rays XY &amp; X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t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common endpoint;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23623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4680" y="2362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733560" y="2514600"/>
            <a:ext cx="1066680" cy="762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657600" y="2743200"/>
            <a:ext cx="129528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724280" y="3885840"/>
            <a:ext cx="53352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51814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d &lt;YXZ, &lt;ZXY (vertex is always in the middle), or &lt;X (if it’s the only &lt;X in the diagra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5562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s can also be named by a #. (&lt;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191120" y="3809520"/>
            <a:ext cx="3962160" cy="2210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different &lt;B’s in this diagram; therefore, none of them should be called &lt;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581280" y="2209320"/>
            <a:ext cx="381240" cy="2667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4876920"/>
            <a:ext cx="335304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581280" y="2514600"/>
            <a:ext cx="2743200" cy="2362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2895480"/>
            <a:ext cx="7596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5486400"/>
            <a:ext cx="7596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480060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5181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2666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B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g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A  means the “measure of &lt;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angles with a protr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of angle measurement are degrees (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les with the same measur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gruent 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&lt;A = m&lt;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&lt;A     &lt;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705720" y="3809880"/>
                <a:ext cx="4572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stulate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Protractor P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ys of an angle can be matched up with real #s (from 1 to 180) on a protractor so that the measure of the &lt; equals the absolute value of the difference of the 2 #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207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 flipV="1">
            <a:off x="5334120" y="1752480"/>
            <a:ext cx="1371600" cy="1981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419720" y="2666880"/>
            <a:ext cx="2286000" cy="1067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365760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220968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89548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4572000"/>
            <a:ext cx="426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lt;A =   55-2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4495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4495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5029200"/>
            <a:ext cx="761760" cy="6094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erior or Exteri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is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is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i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2133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x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2590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90920" y="2437920"/>
            <a:ext cx="3276360" cy="3048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5486400"/>
            <a:ext cx="4800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5410080"/>
            <a:ext cx="15228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39625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7150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562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276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733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5334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st. 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Angle Addition p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 is in the interior of &lt;R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m&lt;QRP + m&lt;PRS = m&lt;Q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838080" y="4038480"/>
            <a:ext cx="3200400" cy="1981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038480" y="2971440"/>
            <a:ext cx="457200" cy="3048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971440" y="2971440"/>
            <a:ext cx="1066680" cy="3048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3505320"/>
            <a:ext cx="76320" cy="759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65760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49568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3429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352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2590920"/>
            <a:ext cx="38862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&lt;QRP=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&lt;PRS=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&amp; m&lt;QRS=8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ind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+2x=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x=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lt;QRP=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&lt;PRS=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4876920"/>
            <a:ext cx="1295280" cy="6094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5410080"/>
            <a:ext cx="411480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ypes of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angle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ngle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use angle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ght angle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29000" y="990360"/>
            <a:ext cx="5562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between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exactly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between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exactly 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81080" y="1447920"/>
            <a:ext cx="121932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286000"/>
            <a:ext cx="1447920" cy="76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3733920"/>
            <a:ext cx="30492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7400" y="30477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4038480"/>
            <a:ext cx="10666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447560" y="4647960"/>
            <a:ext cx="114300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638680"/>
            <a:ext cx="1981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62485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jacent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ngles that share a common vertex &amp; side, but have no common interior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y have the same vertex, but don’t overlap) such as &lt;1 &amp;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447920" y="4114440"/>
            <a:ext cx="2133360" cy="2057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581280" y="3886200"/>
            <a:ext cx="228600" cy="228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81280" y="3886200"/>
            <a:ext cx="1524240" cy="228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5486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5181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16:02:03Z</dcterms:created>
  <dc:creator>Gateway_User</dc:creator>
  <dc:description/>
  <dc:language>en-US</dc:language>
  <cp:lastModifiedBy>julie.geoghagan</cp:lastModifiedBy>
  <dcterms:modified xsi:type="dcterms:W3CDTF">2005-07-28T15:27:04Z</dcterms:modified>
  <cp:revision>11</cp:revision>
  <dc:subject/>
  <dc:title>1.4 Angles &amp; their Measures</dc:title>
</cp:coreProperties>
</file>